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9E9-0FF7-4CDC-82D3-66843823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2F8-CC2C-47BA-9688-15BEDFB6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E94-6251-4CB4-BC1F-3263266C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DBC-7669-40AA-AF08-77B42F51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B74-AFF4-487B-8D71-7B952AE5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177-F677-43F5-AE6A-FDE72B48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A8E-71C9-4BC6-81EE-D4E33EE1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614-0D43-48EE-B62A-5A06276F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F81-6414-4CF0-A7F4-10BE96B2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B1A-721D-4F9C-B264-121C3585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79B-DE4A-493B-8F3E-B3E3F62B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1C9-4BA3-4800-AA34-991E672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752-CF8C-441D-B811-24DFE2016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7760" y="1109520"/>
          <a:ext cx="8450280" cy="46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1109520"/>
                    <a:ext cx="84502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7:31:35Z</dcterms:created>
  <dc:creator>Banco do Brasil</dc:creator>
  <dc:description/>
  <dc:language>en-US</dc:language>
  <cp:lastModifiedBy>Banco do Brasil</cp:lastModifiedBy>
  <dcterms:modified xsi:type="dcterms:W3CDTF">2008-05-28T17:34:25Z</dcterms:modified>
  <cp:revision>2</cp:revision>
  <dc:subject/>
  <dc:title>Apresentação do PowerPoint</dc:title>
</cp:coreProperties>
</file>