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5D4-1948-4C50-8128-BB5B3A0D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949-A251-4A37-AC55-90F9CE46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1D8-941E-4CCE-BD0E-368252CB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DAC-F44C-4E18-9D08-01884143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058-A693-4FB8-B89D-06ACC253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710-F704-4949-9A7F-6A993AA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839-BE97-431C-B916-C8137BCF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D5A-22BF-40EA-8FBB-07C2200D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42D-370A-439C-81F1-41E0AF8E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6E4-D30F-4006-833E-8C583F87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57A-425E-44C5-BF85-47F074B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171-595A-40DF-AF2A-A6597279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DA57-88CD-4FC0-A0E4-8585E3B8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1880" y="704880"/>
          <a:ext cx="822168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704880"/>
                    <a:ext cx="822168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7:31:35Z</dcterms:created>
  <dc:creator>Banco do Brasil</dc:creator>
  <dc:description/>
  <dc:language>en-US</dc:language>
  <cp:lastModifiedBy>Banco do Brasil</cp:lastModifiedBy>
  <dcterms:modified xsi:type="dcterms:W3CDTF">2008-05-28T17:33:27Z</dcterms:modified>
  <cp:revision>1</cp:revision>
  <dc:subject/>
  <dc:title>Apresentação do PowerPoint</dc:title>
</cp:coreProperties>
</file>